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77757"/>
        <c:axId val="50178423"/>
      </c:barChart>
      <c:catAx>
        <c:axId val="63877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78423"/>
        <c:crosses val="autoZero"/>
        <c:auto val="1"/>
        <c:lblAlgn val="ctr"/>
        <c:lblOffset val="100"/>
        <c:noMultiLvlLbl val="0"/>
      </c:catAx>
      <c:valAx>
        <c:axId val="50178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77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1C0-EFCF-4930-9F40-B28E8360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1AD-32F6-4CC5-9859-68FED5AE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537-711C-40C9-B758-901C607C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F6F-3D98-49CB-9105-09382914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397-6AC5-4778-B18F-6858A598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019-B3DA-4B06-8B20-14D65C28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C47-6663-4B93-8A3D-8783F912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3AD-0C0D-426E-B649-9E825D89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619-1CD1-4496-A75D-07016CC6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290-EFCD-47CB-AFB3-B1DEE577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370-0E9A-4C6F-B6B0-32634D60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A12-DD33-4ADE-A4CA-0FFEA4F1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ABAA7-5314-4854-8807-21162AB204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