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361617"/>
        <c:axId val="29442010"/>
      </c:barChart>
      <c:catAx>
        <c:axId val="663616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42010"/>
        <c:crosses val="autoZero"/>
        <c:auto val="1"/>
        <c:lblAlgn val="ctr"/>
        <c:lblOffset val="100"/>
        <c:noMultiLvlLbl val="0"/>
      </c:catAx>
      <c:valAx>
        <c:axId val="294420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616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03FB-23D5-415F-B4B2-46A3306D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7FE6-566F-4F36-A2EA-0306E83C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DC76-F865-4390-9908-147BF3E9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09B6-373C-4CDB-B00F-2B6550D2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DB44-7088-45AD-9592-5006B32D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0A5E-04A9-4E65-8EDE-FE93DD64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04F8-F9DE-4401-91C2-578AD3E2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CC66-47F9-4857-A54E-508C8595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13EE-0F58-48BD-B2AE-9754E644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81B7-7232-4115-8E4B-E1680D8D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C900-4AFB-4907-A256-A9F7FECB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9C8F-EEB9-4E08-8EAD-BBA6C529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97A57-A93A-47D3-B8B3-7D06C7090C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