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88796"/>
        <c:axId val="49301866"/>
      </c:barChart>
      <c:catAx>
        <c:axId val="18688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01866"/>
        <c:crosses val="autoZero"/>
        <c:auto val="1"/>
        <c:lblAlgn val="ctr"/>
        <c:lblOffset val="100"/>
        <c:noMultiLvlLbl val="0"/>
      </c:catAx>
      <c:valAx>
        <c:axId val="49301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88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957-2C48-437F-90CF-0961B10A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4BE-5136-4D8F-85A3-5BA3FAFA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0B9-EC47-4ADA-B063-914C855C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381-A4E3-4BCE-AF1F-B1E3B9FD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45D-A1AA-481F-80D8-76DA1340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D1C-AD7A-47F9-83FD-405E4B91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E89-36B5-494C-8B60-D6147060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2CB-8099-4D45-B203-ECD66B88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D0E-4089-46FA-B204-361796C0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B43-5004-4E68-8A85-DB6DA543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ABA-682D-4681-B361-F45C7BDD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91B-AF70-497D-B767-3F4316D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2C2E8-92EE-48BD-B1EA-8FB5DD4BA5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